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0D-E0CF-4FD0-A02F-84DC5647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CC7-CC5C-44D4-A4A9-3CE3A511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33A-5E65-423C-80FD-D9AB13F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481-FFC7-40AF-BEE5-5171045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92F-E273-4BB2-A569-B98C85B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9A6-5617-4320-994A-ED81714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7C3-5A7E-42F9-A2EF-D700BAA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3FE-4251-4126-8DBF-5CF2ECFA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229-3FCE-4B93-95D7-D821482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6F1-8021-48F1-AB4B-9697521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ABA-E74C-4460-AF9D-CC3234C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158-F81B-4A54-A04D-AC583D1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E10-0C8E-4671-B757-8B86F6EE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your c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iss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important p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my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ook the c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far so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oung gi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eet hu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rk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every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began to g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te clou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s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o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ear the w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most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really tr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time to e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e carry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ow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he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to my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oung 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ng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ut my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ve the clou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g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aceful Ind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out a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s and fl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ike being on the te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ll mount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Ind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started to c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ear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mportant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day of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 it la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most four m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he 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the tre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 in your ey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my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the f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he do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tarted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ween the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never happen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 a wh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good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open the do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might be r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seemed too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hard to op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wn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eg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se othe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ot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left i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be k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 for mi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upon a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it of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alked four mi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til 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cond l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 the mus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your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your s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8:50Z</dcterms:created>
  <dc:creator>Rob Hall</dc:creator>
  <dc:description/>
  <dc:language>en-US</dc:language>
  <cp:lastModifiedBy>Rob Hall</cp:lastModifiedBy>
  <dcterms:modified xsi:type="dcterms:W3CDTF">2003-11-17T02:12:27Z</dcterms:modified>
  <cp:revision>2</cp:revision>
  <dc:subject/>
  <dc:title>High-Frequency Phrases</dc:title>
</cp:coreProperties>
</file>